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492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4232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3640" y="699768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403440" y="62895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Nathan A.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48720" y="697536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T.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647712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92040" y="4191120"/>
            <a:ext cx="128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0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0"/>
          <a:ext cx="10059840" cy="77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984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139920" y="6195960"/>
            <a:ext cx="1403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. Par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52880" y="6805440"/>
            <a:ext cx="103284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96720" y="4168800"/>
            <a:ext cx="12416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23640" y="6477120"/>
            <a:ext cx="1262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142440" y="6289560"/>
            <a:ext cx="148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S. Crand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3760" y="69753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02320" y="662940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59440" y="6289560"/>
            <a:ext cx="9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Fred 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60160" y="6975360"/>
            <a:ext cx="101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8840" y="6553080"/>
            <a:ext cx="1235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Frank R. M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0160" y="426708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8520" y="2120760"/>
            <a:ext cx="72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49640" y="212076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3280" y="212076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640" y="699768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6728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856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3640" y="699768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92560" y="34596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C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4560" y="345960"/>
            <a:ext cx="3122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TH MECHANIZED INFANTRY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33600" y="345960"/>
            <a:ext cx="145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560" y="727200"/>
            <a:ext cx="93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R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15560" y="569880"/>
            <a:ext cx="2094120" cy="27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7440" y="727200"/>
            <a:ext cx="382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ACTIVITY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HQ, 3D BDE ARMOR, 77TH INF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800" y="1079640"/>
            <a:ext cx="9118800" cy="568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3680" y="19051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3680" y="23623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3680" y="28195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3680" y="32767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3680" y="37720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3680" y="42926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477504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529596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3680" y="580392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3680" y="6299280"/>
            <a:ext cx="91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0560" y="1265400"/>
            <a:ext cx="72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22720" y="1265400"/>
            <a:ext cx="518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240" y="1265400"/>
            <a:ext cx="96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9440" y="1265400"/>
            <a:ext cx="758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6400" y="1265400"/>
            <a:ext cx="105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5640" y="1265400"/>
            <a:ext cx="981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R/DC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/B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76320" y="1265400"/>
            <a:ext cx="95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39200" y="1265400"/>
            <a:ext cx="804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42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4784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1156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087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059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7000" y="21207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8520" y="2120760"/>
            <a:ext cx="68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96280" y="2120760"/>
            <a:ext cx="1025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R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6728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6960" y="2120760"/>
            <a:ext cx="132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ST QTR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9320" y="1265400"/>
            <a:ext cx="1166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OMMIIT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07120" y="1073160"/>
            <a:ext cx="0" cy="570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18560" y="2120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3640" y="6997680"/>
            <a:ext cx="8776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4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02320" y="647712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98680" y="6248520"/>
            <a:ext cx="958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R. H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63760" y="685800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1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64680" y="662940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82680" y="6289560"/>
            <a:ext cx="12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16960" y="685800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T.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2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66120" y="6365880"/>
            <a:ext cx="148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S. Crand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7440" y="6975360"/>
            <a:ext cx="946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. P. Mo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160" y="647712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3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34960" y="6289560"/>
            <a:ext cx="12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ichael H. A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2560" y="6899400"/>
            <a:ext cx="118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S. Sl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79080" y="655308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4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0"/>
          <a:ext cx="10050480" cy="776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050480" cy="77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580160" y="4191120"/>
            <a:ext cx="12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Robert J. McMi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4960" y="6289560"/>
            <a:ext cx="122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eorg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2800" y="6975360"/>
            <a:ext cx="101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 R. C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47320" y="6553080"/>
            <a:ext cx="140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sley C. Br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2480" y="7378560"/>
            <a:ext cx="884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                    15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0T09:17:24Z</dcterms:created>
  <dc:creator>Soldier Support Institute</dc:creator>
  <dc:description/>
  <dc:language>en-US</dc:language>
  <cp:lastModifiedBy>Administrator</cp:lastModifiedBy>
  <cp:lastPrinted>2002-01-02T15:41:55Z</cp:lastPrinted>
  <dcterms:modified xsi:type="dcterms:W3CDTF">2004-12-06T16:17:23Z</dcterms:modified>
  <cp:revision>10</cp:revision>
  <dc:subject/>
  <dc:title>FUND CONTROL RECORD</dc:title>
</cp:coreProperties>
</file>